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A35A-8B2B-4F84-813F-339977468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m hope I’m not forgetting something obvi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of benefits.  Everyone pretty much knows these, but might as well mention for the uninitiat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fill in as necessary scott, I don’t want to leave anybody out, these were just the ones I could come with off the top of my he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P == ‘As Many People As Possible’  (I made this acrony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ould  like to stress here is simple.  The toy application will not encompass all of the requirements of a MOD, but provide a small job that proponents of a given middleware solution would code with their middleware.  The idea would be that people could get an idea by looking at this code how it would solve the general problem of database queries and writing a simple web application.    I’m sure there’s lots to consider other than how they solve a problem side by side, but this would really get the discussion going I thin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y ideas.   There will likely be more and better ideas, hopefully people will agree to keep it simple though, otherwise we risk people not participating – everyone is pressed for time and money.   I would really like someone to volunteer to make mock ups of the web page and curation interface if it is decided on that this is the way to proce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4F16F-6D25-460D-A77A-8B521455F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9D8DD-BEB5-4459-A056-1DE10860D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EA67C-FB1E-491B-9056-3F1B28017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44670-13CE-44DB-AB65-F5739BA66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CC83F-86D7-4EE2-A696-E2D93C573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888A3-63BC-4274-AB1B-D3BE83B0C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C9A4B-8711-4644-836B-BBF04EC66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CB6E4-C559-4833-B83E-804088C6F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70183-28DB-4B68-94DB-B48B709ED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F02E1-19B5-4DDD-89B1-83E0A5731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B40FD-931C-47A5-B871-0BE4EB4A4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91C15-9FD7-4E4D-8ED6-1E6CD533F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1C5B8-D50E-4664-8CFF-03CAB4CAC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50B91-A4D8-49A9-A005-F78CF2E65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E370B-C5FF-483A-8116-802C2A3D2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26D67-0986-49EF-876F-DFD2E8739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556E9-6535-4715-B006-2AF4BBCEB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63782-CE8B-45AA-B42E-2C3F3E12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747F5-7E28-44B5-9A38-E46A22317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EA35-AA8C-47EF-9008-C76107BE6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16270-F556-45AB-99E1-7E95BA5AB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6F5C6-5DE9-4CF6-895E-016DD390E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9FC4D-24AE-4496-B684-F42688730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E9DA-F187-49D0-A0DB-447EE87FB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7C2D-0678-4A6B-A9A8-7EC2A9D9259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5F4D-2F62-40A4-A1A4-2D01CC9DA89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MOD Architecture Working Group</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Summer 2006</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ared for Scott Cai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ic Ju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Elements</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of the following have been immensely successful in getting us to work together</a:t>
            </a:r>
            <a:endParaRPr b="0" lang="en-US" sz="32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d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Browse</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ll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applications</a:t>
            </a:r>
            <a:endParaRPr b="0" lang="en-US" sz="28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ader</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do::AutoDBI</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FF3</a:t>
            </a:r>
            <a:endParaRPr b="0" lang="en-US" sz="24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Middleware Layer?</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give us a  common framework for developme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ed up development</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 one middleware, use on many projec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fficient use of tim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s a do-it-yourself aspect to GMO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extending/customizing easier</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iddlware Approaches</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Relational Mapping </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 Chado::AutoDBI</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va: Tim Carver et al.</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ML Dumping/Reading/Loading (XOR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 Oriented Perl/BioPerl (Modwa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fferent approach has its </a:t>
            </a:r>
            <a:r>
              <a:rPr b="1" lang="en-US" sz="2800" spc="-1" strike="noStrike">
                <a:solidFill>
                  <a:srgbClr val="ffffff"/>
                </a:solidFill>
                <a:latin typeface="Tahoma"/>
              </a:rPr>
              <a:t>strengths</a:t>
            </a:r>
            <a:r>
              <a:rPr b="0" lang="en-US" sz="2800" spc="-1" strike="noStrike">
                <a:solidFill>
                  <a:srgbClr val="ffffff"/>
                </a:solidFill>
                <a:latin typeface="Tahoma"/>
              </a:rPr>
              <a:t> and weakness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t…..</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hard for people to evaluate the different approaches… </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curve associated with different languages/platform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has the tim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ation can be tricky</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decide on a development platform for GMOD app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AMPAP must understand the basic idea behind each approac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To Evaluate</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her requirements for a ‘toy’ applicatio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ddleware proponents could code solution using their middleware of choi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meeting, talk us through i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on problem will help compare different approach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 requirements for this ‘toy’ application?</a:t>
            </a:r>
            <a:endParaRPr b="0" lang="en-US" sz="40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web page showing position, peptide sequence, and description of a gene transcrip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curation page to edit some information about a gen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ole script to output fasta sequences of all protein coding transcrip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lunteers</a:t>
            </a: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static mock ups of any web page or curation for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on Drupal sit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its posted, middleware to crank out cod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9T15:49:50Z</dcterms:created>
  <dc:creator>Eric Just</dc:creator>
  <dc:description/>
  <dc:language>en-US</dc:language>
  <cp:lastModifiedBy>Eric Just</cp:lastModifiedBy>
  <dcterms:modified xsi:type="dcterms:W3CDTF">2006-06-20T15:43:29Z</dcterms:modified>
  <cp:revision>15</cp:revision>
  <dc:subject/>
  <dc:title>GMOD Architecture Working Group</dc:title>
</cp:coreProperties>
</file>